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B05-4948-4697-B888-624F7066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853-5053-4718-AF73-E2035E9B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7C9-1720-41BA-91F4-2530CD47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994-EB69-416D-8274-D27D7881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9A0-7756-4141-A9BE-8624E06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00C-D91A-4931-AC23-EB9F985F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555-3142-4C1B-910E-E40476DF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962-403C-4440-B234-057F013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5BD-EA4D-4FC8-B184-792C0E02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845-26E6-4275-8CD5-0528D75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D99-90AC-4E85-9536-E21E97F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78F-734B-4DC9-B2BB-8209EB9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365A-B389-41FA-9A9C-BAD74EB22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pre 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ric Ash and Andreas Pag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hey lived in Central Mexico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Capital is Tenochtitlan (built on a lak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hey believe in many gods (polytheistic) and one of the gods Quetzalcoatl.  According to legend, this god had sailed away years before but had promised to retu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Controlled many  other tribes, forced them to give them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Used other tribes as slaves and human sacrifice (importa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24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151524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ku.e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4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24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2361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uhaus 93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Located on the Andes Mountains,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The capital is Cuz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Polytheistic (believed in many gods). No written language, but had spoken language  (used not as messag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Bauhaus 93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auhaus 93"/>
              </a:rPr>
              <a:t>Practiced animal sacrifice and on special occasions human sacrifice (childr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auhaus 93"/>
              </a:rPr>
              <a:t>They had a civil war with the Spanish and Cortez (when two or more groups of people are fighting in the same count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190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7772400" y="608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Lived in Yucatan Penins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Not just one major city was much harder for Conquistadors to over 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Region did not conation as much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Polytheistic (believed in many Go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Had slaves, who could sometimes gain there freedom.</a:t>
            </a:r>
            <a:r>
              <a:rPr b="0" lang="en-US" sz="3200" spc="-1" strike="noStrike">
                <a:solidFill>
                  <a:srgbClr val="000000"/>
                </a:solidFill>
                <a:latin typeface="Chill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047800" y="14472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ku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e traveled with 500 men and 16 horses to conquer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Other Native Indian groups helped the </a:t>
            </a:r>
            <a:r>
              <a:rPr b="0" lang="en-US" sz="3200" spc="-1" strike="noStrike">
                <a:solidFill>
                  <a:srgbClr val="00ff00"/>
                </a:solidFill>
                <a:latin typeface="Arial Unicode MS"/>
              </a:rPr>
              <a:t>Aztecs believed  that the light skinned Quetzalcoatl would one day return to rule his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In 1531 Francisco, Pizarro and a group of a 180 solders explored the West coast of South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They went and searched of the richest of the Inca em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For months they traveled the Andes mounta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d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anish explorers and conquistadors changed Central and South America by today most of  Central and South America speak Spanish. A lot of Aztec, Inca, Maya culture and traditions have dis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6:46Z</dcterms:created>
  <dc:creator>jklib</dc:creator>
  <dc:description/>
  <dc:language>en-US</dc:language>
  <cp:lastModifiedBy>jklib</cp:lastModifiedBy>
  <dcterms:modified xsi:type="dcterms:W3CDTF">2011-11-30T16:08:09Z</dcterms:modified>
  <cp:revision>6</cp:revision>
  <dc:subject/>
  <dc:title>Conquistadors and pre Columbian civilization</dc:title>
</cp:coreProperties>
</file>